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1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6.png" ContentType="image/png"/>
  <Override PartName="/ppt/media/image7.jpeg" ContentType="image/jpeg"/>
  <Override PartName="/ppt/media/image10.wmf" ContentType="image/x-wmf"/>
  <Override PartName="/ppt/media/image2.png" ContentType="image/png"/>
  <Override PartName="/ppt/media/image4.jpeg" ContentType="image/jpeg"/>
  <Override PartName="/ppt/media/image5.png" ContentType="image/png"/>
  <Override PartName="/ppt/media/image8.jpeg" ContentType="image/jpeg"/>
  <Override PartName="/ppt/media/image11.wmf" ContentType="image/x-wmf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16C0-D09B-4E7E-A95C-FF027CCB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A835-06D6-4286-9B24-E3817A2E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7B1-0606-49DB-882E-8AE37A7F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1D6D-1A86-4784-8655-B5049829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BBFB-C684-4B5A-BD43-B23CE772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E696-CD9A-46EC-894A-72495A68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713A-59EF-4E40-8030-BDD90E9F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9F97-E620-40FB-9C8A-DBC4C2F3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FA1A-AC59-43A1-ACE4-45C25702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DF29-979A-4A11-A44A-E8EA4958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80D2-B01A-45FA-AE4A-76E98025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F229-51DE-44A8-9165-25985EF0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7B3E-9C2C-40C4-A92C-ED833203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3A9E-9B0D-4F34-9C26-E19CC889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D4D3-D72D-4A66-833A-A82E7F11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29DA-6400-4098-8C23-6971081B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8801-842B-439A-A81E-A923F1CA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E867C-E9B6-4931-A62C-5A89EB8C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B58E6-A197-425E-8BF1-72AD0D14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25F46-9DD7-4CAF-B31E-61F591D4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0CED2-CDC4-4632-BB58-F04190BB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BC76E-A856-46AB-942D-BD0A2232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293-6888-42F7-B705-9F3F402B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0319B-EED5-4D8A-907C-E798E1F0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D14B5-2C0F-4E36-BE23-B71BB589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34141-ACEE-42B7-B4ED-FB69818D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2C8D5-3A4C-4B6D-9F29-454035F3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1B752-3875-42BF-B1BB-D97C85E9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8BB66-7058-4409-99A0-EBCA1422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31D8D-29DD-40CF-A7E6-78F54EE6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C3856-ABA4-41D0-8F63-8A7710E0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EB813-55BB-4528-87DE-F5BC57E9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09C9D-DDCA-4443-B59C-FDF04933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6764-03CB-46A1-B091-84A54110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E1E5C-0061-4F81-8FCD-F1447EF2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2E509-FF02-4379-9EE9-B95B8B15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DF974-EC43-46F9-956B-02B948C0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74EB2-CE6B-47C5-9261-0870A0D7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4EA2E-D572-4B44-97DE-0FE5CA30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DA75B-9280-49A9-B883-2E47FE7A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1552A-7647-4CCD-BE39-A4F159D2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D1DCC-FDA2-46D7-A010-0F999299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64267-7D59-4101-AD46-4BB77CC3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042-ABC3-4530-B3DC-17C3451B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BBA-EDD5-4473-B4BF-307B3F86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AC2-F897-4053-AED9-B027A87A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510-FBA7-4E87-B183-32ECBB43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BC5-D44B-40D1-B55C-6C1057A5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D261-23C9-45C3-9735-1AAD08308C88}" type="slidenum">
              <a:rPr b="0" lang="en-N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6BFF-9324-441C-AC0E-E33FE4FFBBB9}" type="slidenum">
              <a:rPr b="0" lang="en-NZ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F1FF-96F1-4D84-B118-82349817E4D1}" type="slidenum">
              <a:rPr b="0" lang="en-NZ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C050-0F3D-46D7-B15C-40055B8A39DC}" type="slidenum">
              <a:rPr b="0" lang="en-N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diabetes.org.nz/managing-diabetes-driving/" TargetMode="External"/><Relationship Id="rId2" Type="http://schemas.openxmlformats.org/officeDocument/2006/relationships/hyperlink" Target="https://www.nzta.govt.nz/assets/resources/factsheets/16/docs/16-diabetes.pdf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afetree.nz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324000" y="2382840"/>
            <a:ext cx="8423280" cy="1987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84360" y="4421160"/>
            <a:ext cx="7775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Lorna Bingham NP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3" descr="DDDHB_logo_B"/>
          <p:cNvPicPr/>
          <p:nvPr/>
        </p:nvPicPr>
        <p:blipFill>
          <a:blip r:embed="rId2"/>
          <a:stretch/>
        </p:blipFill>
        <p:spPr>
          <a:xfrm>
            <a:off x="6732720" y="5834160"/>
            <a:ext cx="224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abetes risk – how do we manage  it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5280" y="2060640"/>
            <a:ext cx="432432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agnosis /misdiagnosi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edication – insulin top 6 medications for error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cute complications &amp; Mana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glycaemi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erglycaemia, HHS or DK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ronic complications result in hospita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Content Placeholder 4" descr=""/>
          <p:cNvPicPr/>
          <p:nvPr/>
        </p:nvPicPr>
        <p:blipFill>
          <a:blip r:embed="rId1"/>
          <a:stretch/>
        </p:blipFill>
        <p:spPr>
          <a:xfrm>
            <a:off x="5033880" y="1920960"/>
            <a:ext cx="326700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7850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sychosocial Aspects of Diabe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8360" y="1700280"/>
            <a:ext cx="82389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linical significant psychopathology is more common in those with diabet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epression – screen annually, women higher rate than me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nxiety lifetime prevalence of 19.5% in T1 &amp; T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sordered Eating – screen if unexplained hyperglycaemia and weight lo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1 insulin omi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2 binge eat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abetes Distress &amp; Fear of Hypos in T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abetes Distress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fers to significant negative psychological reactions related t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motional burdens and worri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pecific to an individuals experience in having to manage a severe, complicated and demanding chronic disease such as diabetes”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evalence 18-45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nstant behavioural demands of medication dosing,  testing, food intak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S45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riving </a:t>
            </a:r>
            <a:br>
              <a:rPr sz="5000"/>
            </a:br>
            <a:r>
              <a:rPr b="0" lang="en-US" sz="1400" spc="-1" strike="noStrike">
                <a:solidFill>
                  <a:srgbClr val="04617b"/>
                </a:solidFill>
                <a:latin typeface="Calibri"/>
              </a:rPr>
              <a:t>Medical aspects of fitness to drive 2014   classes P135-137</a:t>
            </a:r>
            <a:br>
              <a:rPr sz="1400"/>
            </a:b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Content Placeholder 5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492880" cy="4349520"/>
          </a:xfrm>
          <a:prstGeom prst="rect">
            <a:avLst/>
          </a:prstGeom>
          <a:ln w="0">
            <a:noFill/>
          </a:ln>
        </p:spPr>
      </p:pic>
      <p:pic>
        <p:nvPicPr>
          <p:cNvPr id="245" name="Content Placeholder 4" descr=""/>
          <p:cNvPicPr/>
          <p:nvPr/>
        </p:nvPicPr>
        <p:blipFill>
          <a:blip r:embed="rId2"/>
          <a:stretch/>
        </p:blipFill>
        <p:spPr>
          <a:xfrm>
            <a:off x="5672160" y="2060640"/>
            <a:ext cx="35575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Diabetes &amp; Driving concerns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2400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ypoglycaemia - sudden ons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if not eaten, date and time correct on the meter &amp; have Rx at ha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ypoglycaemia unawareness – sudden cognitive impair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 Should they be driving – run bgls higher 6-12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test before drive and have Rx at h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yperglycaemia - ?safe to driv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urred vision, neuropathy, CVD health, retinopath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ypoglycaemia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Content Placeholder 3" descr=""/>
          <p:cNvPicPr/>
          <p:nvPr/>
        </p:nvPicPr>
        <p:blipFill>
          <a:blip r:embed="rId1"/>
          <a:stretch/>
        </p:blipFill>
        <p:spPr>
          <a:xfrm>
            <a:off x="468360" y="1644480"/>
            <a:ext cx="3817800" cy="4807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4643280" y="1643040"/>
            <a:ext cx="404352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abetes Preven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8360" y="1402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re is strong and consistent evidence that modest persistent weight loss can delay the progression from prediabetes to T2 Diabet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 Diabetes Prevention Program 43% reduction in diabetes at 20 yea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enefit of  weight loss of &gt;5%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7% is optimal in lipids, BP and glycaemic contr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50 mins of moderate – vigorous exercise per week over 3 days and no more than 2 days with out activ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6040" y="1700280"/>
            <a:ext cx="868680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To Err is Human Report  </a:t>
            </a:r>
            <a:br>
              <a:rPr sz="5000"/>
            </a:br>
            <a:r>
              <a:rPr b="0" lang="en-US" sz="5400" spc="-1" strike="noStrike">
                <a:solidFill>
                  <a:srgbClr val="04617b"/>
                </a:solidFill>
                <a:latin typeface="Arial"/>
                <a:ea typeface="Arial"/>
              </a:rPr>
              <a:t>Institute of Medicine 1999</a:t>
            </a:r>
            <a:br>
              <a:rPr sz="5400"/>
            </a:b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42800" y="2488680"/>
            <a:ext cx="4259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:10 suffer unintentional harm in coming into hospital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ue to “Human factors”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e vigila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ell people with diabetes they are the experts and to question decisions if they do not seem righ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789440" y="2522520"/>
            <a:ext cx="446256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sulin is top 6 medications for err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Knowledge is vital for reducing risk for people with diabetes (&amp; health professionals!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ational Diabetes Nursing Knowledge &amp; Skills Framework 2018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7" name="Picture 2" descr=" "/>
          <p:cNvPicPr/>
          <p:nvPr/>
        </p:nvPicPr>
        <p:blipFill>
          <a:blip r:embed="rId1"/>
          <a:stretch/>
        </p:blipFill>
        <p:spPr>
          <a:xfrm>
            <a:off x="171360" y="704880"/>
            <a:ext cx="897264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00160" y="10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4" descr="Image result for Driving fun image"/>
          <p:cNvPicPr/>
          <p:nvPr/>
        </p:nvPicPr>
        <p:blipFill>
          <a:blip r:embed="rId1"/>
          <a:stretch/>
        </p:blipFill>
        <p:spPr>
          <a:xfrm>
            <a:off x="395280" y="189000"/>
            <a:ext cx="844236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verview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88480" y="1628640"/>
            <a:ext cx="8255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isk &amp; workplace ris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abetes T1 vs T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abetes related issu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ress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ute, Chronic complicatio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cup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riving, cranes, fork lifts ,operating machinery, ladders etc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bb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Kite boarding, diving, caving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 fa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erence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merican Diabetes Association Standards of Medical Care in Diabetes 2018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ational Diabetes Nursing Knowledge &amp; Skills Framework 2018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 u="sng">
                <a:solidFill>
                  <a:srgbClr val="f49100"/>
                </a:solidFill>
                <a:uFillTx/>
                <a:latin typeface="Arial"/>
                <a:ea typeface="Arial"/>
                <a:hlinkClick r:id="rId1"/>
              </a:rPr>
              <a:t>https://www.diabetes.org.nz/managing-diabetes-driving/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49100"/>
                </a:solidFill>
                <a:uFillTx/>
                <a:latin typeface="Arial"/>
                <a:ea typeface="Arial"/>
                <a:hlinkClick r:id="rId2"/>
              </a:rPr>
              <a:t>https://www.nzta.govt.nz/assets/resources/factsheets/16/docs/16-diabetes.pd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2" descr="Image result for image risk assessment free download"/>
          <p:cNvPicPr/>
          <p:nvPr/>
        </p:nvPicPr>
        <p:blipFill>
          <a:blip r:embed="rId1"/>
          <a:stretch/>
        </p:blipFill>
        <p:spPr>
          <a:xfrm>
            <a:off x="266760" y="333360"/>
            <a:ext cx="84484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6920" y="537840"/>
            <a:ext cx="871380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siderations of work place risk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1928880" y="2940120"/>
            <a:ext cx="2138400" cy="22114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ag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621400" y="3556080"/>
            <a:ext cx="2655000" cy="1535040"/>
          </a:xfrm>
          <a:prstGeom prst="rect">
            <a:avLst/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ccupational Health risk reductio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Oval 6"/>
          <p:cNvSpPr/>
          <p:nvPr/>
        </p:nvSpPr>
        <p:spPr>
          <a:xfrm>
            <a:off x="1712880" y="1392120"/>
            <a:ext cx="2930400" cy="15192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alth &amp; Safety at work ACT 20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7"/>
          <p:cNvSpPr/>
          <p:nvPr/>
        </p:nvSpPr>
        <p:spPr>
          <a:xfrm>
            <a:off x="125280" y="2165400"/>
            <a:ext cx="2498760" cy="15508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azard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8"/>
          <p:cNvSpPr/>
          <p:nvPr/>
        </p:nvSpPr>
        <p:spPr>
          <a:xfrm>
            <a:off x="3078000" y="2757600"/>
            <a:ext cx="1854360" cy="12808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ood 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9"/>
          <p:cNvSpPr/>
          <p:nvPr/>
        </p:nvSpPr>
        <p:spPr>
          <a:xfrm>
            <a:off x="4287960" y="1649520"/>
            <a:ext cx="1990440" cy="1584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trol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0"/>
          <p:cNvSpPr/>
          <p:nvPr/>
        </p:nvSpPr>
        <p:spPr>
          <a:xfrm>
            <a:off x="4067280" y="4505400"/>
            <a:ext cx="1854000" cy="12808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idence based  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"/>
          <p:cNvSpPr/>
          <p:nvPr/>
        </p:nvSpPr>
        <p:spPr>
          <a:xfrm>
            <a:off x="6867360" y="5145120"/>
            <a:ext cx="1656000" cy="14414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7020000" y="5661000"/>
            <a:ext cx="15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7513560" y="2239920"/>
            <a:ext cx="1728720" cy="16225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1"/>
          <p:cNvSpPr/>
          <p:nvPr/>
        </p:nvSpPr>
        <p:spPr>
          <a:xfrm>
            <a:off x="7770960" y="290664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2"/>
          <p:cNvSpPr/>
          <p:nvPr/>
        </p:nvSpPr>
        <p:spPr>
          <a:xfrm>
            <a:off x="5589720" y="2490840"/>
            <a:ext cx="1942920" cy="1341360"/>
          </a:xfrm>
          <a:prstGeom prst="ellipse">
            <a:avLst/>
          </a:prstGeom>
          <a:solidFill>
            <a:srgbClr val="009d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3"/>
          <p:cNvSpPr/>
          <p:nvPr/>
        </p:nvSpPr>
        <p:spPr>
          <a:xfrm>
            <a:off x="5886360" y="3051000"/>
            <a:ext cx="14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159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isk Management Principles and guidelines </a:t>
            </a:r>
            <a:r>
              <a:rPr b="0" lang="en-NZ" sz="1200" spc="-1" strike="noStrike">
                <a:solidFill>
                  <a:srgbClr val="04617b"/>
                </a:solidFill>
                <a:latin typeface="Calibri"/>
              </a:rPr>
              <a:t>AS/NZS ISO 31000:2009</a:t>
            </a:r>
            <a:br>
              <a:rPr sz="12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isk- Contex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ccountabil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mun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efine risk crite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isk assessme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dentif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nalysi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valu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ea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Content Placeholder 1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orksafe -  manage risk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an extensive range of industry-specific guidance about how to manage workplace risks for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agricultu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forestry (there is a separate </a:t>
            </a:r>
            <a:r>
              <a:rPr b="0" lang="en-NZ" sz="2000" spc="-1" strike="noStrike" u="sng">
                <a:solidFill>
                  <a:srgbClr val="f49100"/>
                </a:solidFill>
                <a:uFillTx/>
                <a:latin typeface="Arial"/>
                <a:ea typeface="Arial"/>
                <a:hlinkClick r:id="rId1"/>
              </a:rPr>
              <a:t>Safe Tree industry website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and build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adventure activit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the extractives, geothermal, petroleum and energy secto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asbest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min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major hazard facilit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work-related health (eg noise, silica, solvents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abetes comparis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0680" y="1171440"/>
            <a:ext cx="403992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Arial"/>
                <a:ea typeface="Arial"/>
              </a:rPr>
              <a:t>Type 1 – make no insul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4720" y="1176480"/>
            <a:ext cx="4041720" cy="65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Arial"/>
                <a:ea typeface="Arial"/>
              </a:rPr>
              <a:t>Type 2 – make insulin but not working effectively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560" y="1726920"/>
            <a:ext cx="4135320" cy="4537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cute onse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 P’s- Polyuria, polydipsia, polyphagia,  infections, blurred visio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ny age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ff"/>
                </a:solidFill>
                <a:latin typeface="Arial"/>
                <a:ea typeface="Arial"/>
              </a:rPr>
              <a:t>Keton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eatmen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eed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insul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injections from diagnosis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17b"/>
                </a:solidFill>
                <a:latin typeface="Arial"/>
                <a:ea typeface="Arial"/>
              </a:rPr>
              <a:t>Gestational Diabetes Mellitus (GDM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17b"/>
                </a:solidFill>
                <a:latin typeface="Arial"/>
                <a:ea typeface="Arial"/>
              </a:rPr>
              <a:t>Other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4720" y="2073240"/>
            <a:ext cx="4041720" cy="3844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80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sidious onse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mily Hx of T2DM or CV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bese BMI &gt; 30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ntipsychotic medication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thnicit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eatm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IFESTYLE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nitoring and follow up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tformin,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glipizi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gliclazi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Anti HTNs , stati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ny will need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insuli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ventually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25240" y="283680"/>
            <a:ext cx="836748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ext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ccupation &amp; hobbies=concer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Oval 1"/>
          <p:cNvSpPr/>
          <p:nvPr/>
        </p:nvSpPr>
        <p:spPr>
          <a:xfrm>
            <a:off x="3409920" y="2965320"/>
            <a:ext cx="1601640" cy="1532160"/>
          </a:xfrm>
          <a:prstGeom prst="ellipse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6"/>
          <p:cNvSpPr/>
          <p:nvPr/>
        </p:nvSpPr>
        <p:spPr>
          <a:xfrm>
            <a:off x="5076720" y="1990800"/>
            <a:ext cx="1944720" cy="1439640"/>
          </a:xfrm>
          <a:prstGeom prst="ellipse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e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5292720" y="4309920"/>
            <a:ext cx="2592360" cy="1586160"/>
          </a:xfrm>
          <a:prstGeom prst="ellipse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hem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3094200" y="4724280"/>
            <a:ext cx="1944360" cy="1951200"/>
          </a:xfrm>
          <a:prstGeom prst="ellipse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lectri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1660680" y="2179800"/>
            <a:ext cx="2125440" cy="1155600"/>
          </a:xfrm>
          <a:prstGeom prst="ellipse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611280" y="3925800"/>
            <a:ext cx="2230200" cy="2167200"/>
          </a:xfrm>
          <a:prstGeom prst="ellipse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quipment &amp; machin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1"/>
          <p:cNvSpPr/>
          <p:nvPr/>
        </p:nvSpPr>
        <p:spPr>
          <a:xfrm>
            <a:off x="7427880" y="2743200"/>
            <a:ext cx="1465200" cy="1981080"/>
          </a:xfrm>
          <a:prstGeom prst="ellipse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A comprehensive assessment framework reduces risk in diabet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2457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mily histor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sychosocial inc occupation &amp; hobb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edication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VD &amp; HbA1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agn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ood communication lowers risk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le and responsibility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lth liter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22:38:36Z</dcterms:created>
  <dc:creator>Janey</dc:creator>
  <dc:description/>
  <dc:language>en-US</dc:language>
  <cp:lastModifiedBy>Annette Stubbersfield</cp:lastModifiedBy>
  <dcterms:modified xsi:type="dcterms:W3CDTF">2018-09-05T04:46:28Z</dcterms:modified>
  <cp:revision>28</cp:revision>
  <dc:subject/>
  <dc:title>PowerPoint Presentation</dc:title>
</cp:coreProperties>
</file>